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CE33-1CE5-40B6-B540-945EDFEE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2D7-70E5-42A5-90D9-B878C600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28F7-D713-4260-AE62-4EFB989A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A06-29FF-4C93-93CC-BD57A3E6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82C1-8F50-4FF4-B5CE-19F2EEF0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FD4E-8F51-4F9C-8263-E2AEBA25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494F-0068-4F28-BC5F-2B3A150D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12E1-B8AA-4DA3-A5E3-2FF815E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218B-D297-4880-AFFE-B2B788F7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905-3585-401C-99A2-6AC8246B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5CE-3F69-40E0-A987-29B261C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183-3018-47D5-B5F8-FA506FA0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A6F0-19C3-4035-B52B-BB70DB2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D922-4B43-494C-9667-020BC1B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6D92-D485-4D42-AF71-E71AE1D7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C967-23BA-4231-84F9-EB394875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A307-6D47-4446-8986-BE8D059F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DAB-1D55-433D-BD0B-458E15CD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6BB-6AB9-44FC-B24A-6ABA6942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16A6-E131-4A54-B515-D14570A3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70C-5231-4EFF-A35A-9F5DC60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647-A444-43AA-BA6E-F15A311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0BC-05EE-4DFF-ACFD-9FCEE064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113E-04CC-4868-8E9E-4B3681D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2601-90D5-47BF-A1D8-DC80F2D9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803E-36BE-4913-87E6-484C48EFF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into computers/sto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 (P.I.s, students, occasional bioinforma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pers, few people, £/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of th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by keyword/gene/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/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uration (SVM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's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 Light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676520"/>
            <a:ext cx="388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67328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/community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Assessment of Community Annotation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3:02:47Z</dcterms:created>
  <dc:creator>Daniel Renfro</dc:creator>
  <dc:description/>
  <dc:language>en-US</dc:language>
  <cp:lastModifiedBy>GMOD / NESCent</cp:lastModifiedBy>
  <cp:lastPrinted>2010-09-24T17:48:19Z</cp:lastPrinted>
  <dcterms:modified xsi:type="dcterms:W3CDTF">2010-09-24T17:48:34Z</dcterms:modified>
  <cp:revision>10</cp:revision>
  <dc:subject/>
  <dc:title>Publications &amp; GMOD</dc:title>
</cp:coreProperties>
</file>